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D7F-BC11-4B52-BEFA-BD00E6D1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966-97F4-4970-AF7E-0A3CF8D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FDA-39E2-4BFB-ABBB-4A66572E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50E-0A9D-425C-9CDE-5609F366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1B0-D080-47C6-B65D-CF805FEF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967-69E9-408A-A546-2A5F1FF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E8A-234E-4F86-90B9-6ECD90E7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57C-BD52-4DAC-95DC-5F11CF81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056-3471-46D4-AAED-5669ABE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E4D-9200-4317-959F-9FD9FC0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4F7-D475-4DB0-B7A2-0EE8E93D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997-8FF7-48F2-B81F-7B87DC79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ADFD-1A66-4B6D-AAD8-D8E4EEF0ACA8}" type="slidenum"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ovka-eysk.ru/elementy?folder_id=258253601&amp;mode=folder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2819520" y="4572000"/>
            <a:ext cx="594360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15"/>
          <p:cNvSpPr txBox="1"/>
          <p:nvPr/>
        </p:nvSpPr>
        <p:spPr>
          <a:xfrm>
            <a:off x="1763640" y="476280"/>
            <a:ext cx="590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Ковка-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художественная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обработка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еталла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611280" y="259200"/>
            <a:ext cx="8156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еликая страна начинается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у дверей твоего дома.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Оглянись вокруг себя и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изучай свой родной край,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Чтобы ещё больше любить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его и гордиться им!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7" name="Picture 5" descr="img0016"/>
          <p:cNvPicPr/>
          <p:nvPr/>
        </p:nvPicPr>
        <p:blipFill>
          <a:blip r:embed="rId1"/>
          <a:stretch/>
        </p:blipFill>
        <p:spPr>
          <a:xfrm>
            <a:off x="250920" y="3141720"/>
            <a:ext cx="4174920" cy="352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img0017"/>
          <p:cNvPicPr/>
          <p:nvPr/>
        </p:nvPicPr>
        <p:blipFill>
          <a:blip r:embed="rId2"/>
          <a:stretch/>
        </p:blipFill>
        <p:spPr>
          <a:xfrm>
            <a:off x="2771640" y="3473280"/>
            <a:ext cx="4587840" cy="338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mg0019"/>
          <p:cNvPicPr/>
          <p:nvPr/>
        </p:nvPicPr>
        <p:blipFill>
          <a:blip r:embed="rId3"/>
          <a:stretch/>
        </p:blipFill>
        <p:spPr>
          <a:xfrm>
            <a:off x="4500720" y="3357720"/>
            <a:ext cx="4032000" cy="33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905120" y="1143000"/>
            <a:ext cx="5257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0" lang="en-US" sz="24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0" lang="en-US" sz="24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нимание</a:t>
            </a:r>
            <a:endParaRPr b="0" lang="en-US" sz="24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komp6"/>
          <p:cNvPicPr/>
          <p:nvPr/>
        </p:nvPicPr>
        <p:blipFill>
          <a:blip r:embed="rId1"/>
          <a:stretch/>
        </p:blipFill>
        <p:spPr>
          <a:xfrm>
            <a:off x="250920" y="333360"/>
            <a:ext cx="288108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203640" y="543600"/>
            <a:ext cx="62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узнечное дело считается одним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з самых древних ремесел после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бработки камня. Как только человек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бнаружил все преимущества железа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еред камнем, он начал совершенствовать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ехнологию его обработки. Кузнечное дело,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 отличие от других ремесел, вызвало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еобходимость оборудовать специальные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мещения –кузницы, отделенные от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ома ремесленника. Кузница, как объект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вышенной пожароопасности, располагались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 окраинах поселения. Они уже были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борудованы горном и воздуходувными мехами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4" descr="http://www.fastmarksman.ru/1or.files/image004.jpg"/>
          <p:cNvPicPr/>
          <p:nvPr/>
        </p:nvPicPr>
        <p:blipFill>
          <a:blip r:embed="rId1"/>
          <a:stretch/>
        </p:blipFill>
        <p:spPr>
          <a:xfrm>
            <a:off x="4572000" y="189000"/>
            <a:ext cx="4321080" cy="3529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0" y="141120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 — скоба для инструментов;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 — резервуар для угля;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 — наковальня; 4 — колода;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 — бочка с водой;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6 — слесарные тиски;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7 — рабочий стол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омещение для кузницы  должно быть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достаточно просторным и светлым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олезная площадь — около 40 м2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и высоте 3-4 м. Стены кузницы —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кирпичные или деревянные. При постройке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кузницы из дерева стены следует оштукатурить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 внутренней стороны. Пол гладкий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легко убирающийся. Важнейшим оборудованием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является горн — на один или два огня под одним дымоходом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т горна на расстоянии 1,5-2 м устанавливают наковальню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на некотором расстоянии от нее — стуловые тиски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468360" y="189000"/>
            <a:ext cx="38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ройство </a:t>
            </a:r>
            <a:endParaRPr b="0" lang="en-US" sz="24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временной кузницы.</a:t>
            </a:r>
            <a:endParaRPr b="0" lang="en-US" sz="24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4645080" y="320040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31120" y="183240"/>
            <a:ext cx="8681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Художественная ковка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- является одним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из древнейших способов обработки металла,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история которого насчитывает не одну тысячу лет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Раньше кованые изделия были привилегией лишь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состоятельных людей, однако, сегодня художественная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ковка из металла стала более доступна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Несмотря на свою доступность, кованые изделия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и сегодня считаются элементами достатка.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В современном строительстве кованые металлические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изделия пользуются повышенным спросом благодаря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надежности и прочности. Художественная ковка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редоставляет огромные возможности для воплощения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самых оригинальных дизайнерских идей и прекрасно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сочетается абсолютно со всеми строительными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материалами и архитектурными стилями.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5360" y="473040"/>
            <a:ext cx="865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Элементы ковки включают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в себя разнообразные 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пики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, 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штамповки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, многочисленные 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олюты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, 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корзинки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листья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 и  декоративнее элементы. Фигурные кованые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зделия могут быть выполнены в виде волнистых завитков,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журных спиралей, которые могут стать прекрасным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дополнением оформления фасада, ландшафтного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дизайна и прилегающей территории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1" name="Picture 6" descr="386816001_5"/>
          <p:cNvPicPr/>
          <p:nvPr/>
        </p:nvPicPr>
        <p:blipFill>
          <a:blip r:embed="rId2"/>
          <a:srcRect l="21651" t="0" r="28738" b="-6325"/>
          <a:stretch/>
        </p:blipFill>
        <p:spPr>
          <a:xfrm>
            <a:off x="1476360" y="3500280"/>
            <a:ext cx="158436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389133801_5"/>
          <p:cNvPicPr/>
          <p:nvPr/>
        </p:nvPicPr>
        <p:blipFill>
          <a:blip r:embed="rId3"/>
          <a:srcRect l="19356" t="0" r="19356" b="-2782"/>
          <a:stretch/>
        </p:blipFill>
        <p:spPr>
          <a:xfrm>
            <a:off x="3348000" y="4581360"/>
            <a:ext cx="1079640" cy="20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386727001_5"/>
          <p:cNvPicPr/>
          <p:nvPr/>
        </p:nvPicPr>
        <p:blipFill>
          <a:blip r:embed="rId4"/>
          <a:srcRect l="28738" t="0" r="28738" b="-2782"/>
          <a:stretch/>
        </p:blipFill>
        <p:spPr>
          <a:xfrm>
            <a:off x="4716360" y="3357720"/>
            <a:ext cx="1441440" cy="28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386664201_5"/>
          <p:cNvPicPr/>
          <p:nvPr/>
        </p:nvPicPr>
        <p:blipFill>
          <a:blip r:embed="rId5"/>
          <a:srcRect l="21651" t="10666" r="18108" b="-6325"/>
          <a:stretch/>
        </p:blipFill>
        <p:spPr>
          <a:xfrm>
            <a:off x="6372360" y="4508640"/>
            <a:ext cx="1511280" cy="216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mith"/>
          <p:cNvPicPr/>
          <p:nvPr/>
        </p:nvPicPr>
        <p:blipFill>
          <a:blip r:embed="rId1"/>
          <a:stretch/>
        </p:blipFill>
        <p:spPr>
          <a:xfrm>
            <a:off x="250920" y="3141720"/>
            <a:ext cx="3671640" cy="33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1298618387_2"/>
          <p:cNvPicPr/>
          <p:nvPr/>
        </p:nvPicPr>
        <p:blipFill>
          <a:blip r:embed="rId2"/>
          <a:stretch/>
        </p:blipFill>
        <p:spPr>
          <a:xfrm>
            <a:off x="4427640" y="692280"/>
            <a:ext cx="4437000" cy="324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kuz"/>
          <p:cNvPicPr/>
          <p:nvPr/>
        </p:nvPicPr>
        <p:blipFill>
          <a:blip r:embed="rId3"/>
          <a:stretch/>
        </p:blipFill>
        <p:spPr>
          <a:xfrm>
            <a:off x="4284720" y="2924280"/>
            <a:ext cx="4032360" cy="2808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9"/>
          <p:cNvSpPr txBox="1"/>
          <p:nvPr/>
        </p:nvSpPr>
        <p:spPr>
          <a:xfrm>
            <a:off x="395280" y="476280"/>
            <a:ext cx="266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</a:t>
            </a:r>
            <a:endParaRPr b="0" i="1" lang="en-US" sz="20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банских</a:t>
            </a:r>
            <a:endParaRPr b="0" i="1" lang="en-US" sz="20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знецов</a:t>
            </a:r>
            <a:endParaRPr b="0" i="1" lang="en-US" sz="20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-54144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пользование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«горячей»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овки металла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356000" y="18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узня мастеров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995640" y="567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пользование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«холодной»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овки металла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G_7001"/>
          <p:cNvPicPr/>
          <p:nvPr/>
        </p:nvPicPr>
        <p:blipFill>
          <a:blip r:embed="rId1"/>
          <a:stretch/>
        </p:blipFill>
        <p:spPr>
          <a:xfrm>
            <a:off x="179280" y="1916280"/>
            <a:ext cx="777744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G_8920"/>
          <p:cNvPicPr/>
          <p:nvPr/>
        </p:nvPicPr>
        <p:blipFill>
          <a:blip r:embed="rId2"/>
          <a:stretch/>
        </p:blipFill>
        <p:spPr>
          <a:xfrm>
            <a:off x="2124000" y="1889280"/>
            <a:ext cx="6624720" cy="49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MG_8668"/>
          <p:cNvPicPr/>
          <p:nvPr/>
        </p:nvPicPr>
        <p:blipFill>
          <a:blip r:embed="rId3"/>
          <a:stretch/>
        </p:blipFill>
        <p:spPr>
          <a:xfrm>
            <a:off x="3492360" y="1889280"/>
            <a:ext cx="5651640" cy="496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IMG_6215"/>
          <p:cNvPicPr/>
          <p:nvPr/>
        </p:nvPicPr>
        <p:blipFill>
          <a:blip r:embed="rId4"/>
          <a:stretch/>
        </p:blipFill>
        <p:spPr>
          <a:xfrm>
            <a:off x="6156360" y="1916280"/>
            <a:ext cx="2808360" cy="4465440"/>
          </a:xfrm>
          <a:prstGeom prst="rect">
            <a:avLst/>
          </a:prstGeom>
          <a:ln w="0">
            <a:noFill/>
          </a:ln>
        </p:spPr>
      </p:pic>
      <p:sp>
        <p:nvSpPr>
          <p:cNvPr id="66" name="WordArt 8"/>
          <p:cNvSpPr txBox="1"/>
          <p:nvPr/>
        </p:nvSpPr>
        <p:spPr>
          <a:xfrm>
            <a:off x="880920" y="260280"/>
            <a:ext cx="7382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коративные ворота и калитка. </a:t>
            </a:r>
            <a:endParaRPr b="0" lang="en-US" sz="20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бственно, с чего всё началось...</a:t>
            </a:r>
            <a:endParaRPr b="0" lang="en-US" sz="20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kak-kovat-lozu"/>
          <p:cNvPicPr/>
          <p:nvPr/>
        </p:nvPicPr>
        <p:blipFill>
          <a:blip r:embed="rId1"/>
          <a:stretch/>
        </p:blipFill>
        <p:spPr>
          <a:xfrm>
            <a:off x="250920" y="1744560"/>
            <a:ext cx="8642160" cy="4765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listik01_1"/>
          <p:cNvPicPr/>
          <p:nvPr/>
        </p:nvPicPr>
        <p:blipFill>
          <a:blip r:embed="rId2"/>
          <a:stretch/>
        </p:blipFill>
        <p:spPr>
          <a:xfrm>
            <a:off x="2916360" y="1700280"/>
            <a:ext cx="4070160" cy="328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istik02"/>
          <p:cNvPicPr/>
          <p:nvPr/>
        </p:nvPicPr>
        <p:blipFill>
          <a:blip r:embed="rId3"/>
          <a:stretch/>
        </p:blipFill>
        <p:spPr>
          <a:xfrm>
            <a:off x="5003640" y="3284640"/>
            <a:ext cx="3745080" cy="2995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listik02_1"/>
          <p:cNvPicPr/>
          <p:nvPr/>
        </p:nvPicPr>
        <p:blipFill>
          <a:blip r:embed="rId4"/>
          <a:stretch/>
        </p:blipFill>
        <p:spPr>
          <a:xfrm>
            <a:off x="395280" y="2492280"/>
            <a:ext cx="3168720" cy="3241800"/>
          </a:xfrm>
          <a:prstGeom prst="rect">
            <a:avLst/>
          </a:prstGeom>
          <a:ln w="0">
            <a:noFill/>
          </a:ln>
        </p:spPr>
      </p:pic>
      <p:sp>
        <p:nvSpPr>
          <p:cNvPr id="71" name="WordArt 10"/>
          <p:cNvSpPr txBox="1"/>
          <p:nvPr/>
        </p:nvSpPr>
        <p:spPr>
          <a:xfrm>
            <a:off x="179280" y="404640"/>
            <a:ext cx="849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вка декоративной</a:t>
            </a:r>
            <a:endParaRPr b="0" lang="en-US" sz="20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ноградной лозы</a:t>
            </a:r>
            <a:endParaRPr b="0" lang="en-US" sz="20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tanok-dlj-gibki-profilnoj-truby"/>
          <p:cNvPicPr/>
          <p:nvPr/>
        </p:nvPicPr>
        <p:blipFill>
          <a:blip r:embed="rId1"/>
          <a:stretch/>
        </p:blipFill>
        <p:spPr>
          <a:xfrm>
            <a:off x="250920" y="2708280"/>
            <a:ext cx="5329080" cy="386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kovka-v-domashnikh-usloviiakh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43360" y="763200"/>
            <a:ext cx="37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ночное оборудование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бственной разработки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для гнутья металла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284720" y="26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ночное оборудование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бственной разработки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для отбивки металла после обжима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3:30:29Z</dcterms:created>
  <dc:creator>Администратор</dc:creator>
  <dc:description/>
  <dc:language>en-US</dc:language>
  <cp:lastModifiedBy>Ad_Astra</cp:lastModifiedBy>
  <dcterms:modified xsi:type="dcterms:W3CDTF">2014-12-15T09:14:28Z</dcterms:modified>
  <cp:revision>90</cp:revision>
  <dc:subject/>
  <dc:title>Презентация PowerPoint</dc:title>
</cp:coreProperties>
</file>